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19008725" cy="10691813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2989440" y="887400"/>
            <a:ext cx="4255920" cy="23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1022400" y="3416040"/>
            <a:ext cx="8190000" cy="2795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579708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AB52F-C3C5-48CC-8F29-81702F7FB90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2989440" y="887400"/>
            <a:ext cx="4255920" cy="2395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022400" y="3416040"/>
            <a:ext cx="8190000" cy="27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zh-CN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579744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1809B-75AB-4A88-9152-32B10FFBFD7B}" type="slidenum"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912-49E7-41D6-A168-0A7727C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2E7-F058-4B47-B6BD-8D9DC6B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FB82-E92C-4D54-86CD-C3F7520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5AD4-8162-47AA-9CDF-1FD558CE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6000A-2FEF-4E05-B6D9-4FD6ED69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4610-3F5D-44AF-9EA1-CB8AA99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ECDE7-C69F-4F42-AF0D-2A2D538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783CB-F7BD-48E6-90D9-3E7359F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ABD2-3BB3-4D1A-A632-797A445A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1828-3DB8-4332-B81C-B60FD334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5627E-30C9-4AAF-83E7-3CC5423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93D1C-607C-4197-A852-B60D3CAA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CA9-256A-4883-BDD1-FB745543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C02E3-6E44-4A56-8A86-2E3D308F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041C6-05B5-4B0E-9E33-E3EFA6F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E84E6-D44D-4024-AF8D-24279E2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61DE-DF02-4A03-B01B-745B7F3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E0175-5DB6-49AE-907B-ABD75C71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5649F-9769-4434-8513-AB06B90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9FC6B-F1FB-4136-8E50-6364E68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97BA-1DAB-4363-917E-B969F94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DBDFB-AECF-4BEF-A132-90F1051B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FDE8-FB42-4ABD-A9A0-66288D1F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CFA-B88E-41E9-87BF-60BBA729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0BD8-1887-4726-AC1E-8FC3261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D067-CC86-44E0-BC0B-40FC6232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66BBB-DC57-4F01-A672-DE37512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B7B13-3427-462F-872F-8463A5E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BCD65-4A1C-4A8A-8CAB-1131A3B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201A1-FF01-4E52-8681-170392B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2D366-3706-4CF3-B602-1FB0133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75A8-1C25-46A9-ADC1-BC937A0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12AFB-3CAA-4B8E-86ED-B94F05B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6DB69-DB2D-4062-B834-B6DC7F7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4E2-4125-4413-A2DC-728386AF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285F-D031-429F-A466-109B033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46EF-3937-4C3D-8654-FE8A7DE7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4FEB-EA2B-43E7-9256-C317C958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E770E-2087-4D95-8384-A017913E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E12A8-82F3-458E-94AF-C59EE23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8CEDE-EFE4-4C3A-A960-AEF6BBCC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3611-11B0-4A92-BFB5-3702AC6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20E70-B043-4D78-BB89-86DE95D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DA234-03F8-4868-82D6-CB9962E7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A8C9C-261B-4977-840C-5ABCA72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60A5-7F4D-487F-B2D4-0A499FE6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6C372-3FBD-4B98-B6CA-3584257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E18D-996F-4BBE-A786-990E962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FB1A-9F08-45FC-8691-73F8C5A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5A614-9368-4299-B949-C010CEE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76B7B-503B-4600-A677-4406D41D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23E97-F9B2-4882-B916-1D80E963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C0E8D-F600-4B6D-8FC9-A6AE9284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9927F-A46C-44D2-9A59-F7E4383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38611-BAC5-4B49-8CB3-53235AF0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8EA04-CADB-4ACA-9E21-A8760D2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132-2D74-4937-954C-F145B67D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F3C08-8914-4C8F-8140-E0B265D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605EC-C542-4868-A791-D17A600D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C51C8-2E87-4CD9-81F5-FA8494E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4A1F5-E365-4D17-8E63-F796797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AAE0F-7BE7-4115-9C2D-0F8523D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4C38A-C683-4132-A167-822436AB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69A60-FED3-4FF6-9BAB-0B126D0A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2DA-79CA-42B6-960C-C356927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4C67-7557-4335-A523-B19C1360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3B8D-862B-43CB-B567-BEC9580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3AB-43B1-4A26-AC9C-5D7FD7A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C0-9AFC-46E1-9B73-07D118EE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23A-5488-4E46-9FAC-03BBB15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339-DDD2-4074-9DAE-057CDCB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4D38-E5D0-46D2-A435-22A6E72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E053-6C03-49F6-8978-F52D6570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3425-394C-489A-AB24-3E5B9AD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BFA5-8096-4BF2-BC0A-6A7F100F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8719-AD21-4E61-BC47-8569434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F50E-2E54-47B4-BCB3-B8A26A83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F0CF-2D58-42D9-BF74-C4B18725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DC93-A91A-42A5-8F7F-498D658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436-0490-470B-B700-4E59687E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E8E0-4907-44D9-A81B-B7A01F5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8676-2B39-43B3-9780-96141A7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FD66-058F-4C49-B90F-6E953A6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59C3-E700-456A-A30C-1C1CE0B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C7A9-2B4A-4786-BB17-DEA46DE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4740-AD23-4A1D-AA1E-65C8074C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F211-67EF-4294-951D-CC84094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3864-A7E5-48A6-BA6D-5AE1ED5C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53AD-C15B-4FA4-B222-DE31A35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04C4-A93E-4040-8028-433C2937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4CE-2F8C-4258-874A-97E09ABA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771B-179C-4347-ACAA-CE196B1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FA89-0B87-4BA1-9159-34B3DA18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6867-91CC-4ACD-8313-6DD2B2B0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0249-C5A2-47AE-ABCE-9121696A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B28E-8FF0-492B-AC85-D74C8B3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4D4E-DB40-4124-B075-86D6967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F017-7C92-49AC-AFE8-805B5E4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4200-9ED2-4EC2-8CA6-6C641007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09E6-7015-4F50-AE9D-F0629322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EE6B-C7F9-4927-9A15-038E830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06C-15A4-40DD-B334-DD2097A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79FE-BA4B-467A-81A2-1B8C729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96976-5404-44EB-8B69-B2A0EC84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37ED-F66B-4897-97CE-3888E20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49F1-247E-479F-B7FF-16F44CF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4067A-6797-4536-A767-871CC60C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B043-803B-4DCD-9E68-368707FF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F787-C1DF-4612-AB4E-1623046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E06A-64CB-415D-A845-86F7AAD0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EE20-2D9C-4FCF-992E-D9BC8EC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252D-5508-4476-91E9-4B22B276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96B-56F5-46EA-899D-206347D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DE1FF-7A6C-40E9-9B7A-34C68442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620D-8CEC-4C2C-B32D-50C486BB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B7B0-88A8-4AC3-BFDB-58915F32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1F45-5FEE-4D64-A340-571B443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87AB4-273F-42C8-B4B6-6DDD2E5D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98F7-DC53-4FBD-868D-84422DA5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6C08-FD48-41E2-BDD7-F491863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6F5D-15C7-4FAA-A7F3-A138B3D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4EF54-39F3-4801-B217-4D8E4FC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102C-EBBD-4C24-9FEB-7178761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D51-1DF8-430E-AB4B-9D9C4EA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FB28-00EF-48AF-BF7D-1069C50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C7B2-C02D-4226-BE3C-6BF7F9D7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E57B-8E96-4AA0-B43A-67FBE951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05D8-DD9F-4297-BEC6-2ED6AB26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D56A-3739-4B10-9CFF-C36A9AA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C3732-EFD9-4D3C-B57C-4AC7847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C16A-EB14-4F8B-A4BB-8C9A77F2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7DEA-9F0C-44FE-AB88-D498A5D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16B2-3BAB-4D8F-9CC4-C85F105E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E3D0-1819-4EFD-A5BA-BE2FC85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AE8-D4AF-416C-859C-50162FD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BA4C-F1D0-410A-BCE1-629ECEFA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66E80-83B2-4A7C-BDA4-BFA45C0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A96E-68B2-47D2-B461-47B970C5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FD4A-C468-40BE-81D9-B0DAF164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F46A2-7ADB-452E-864B-4C982B3B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D7A0A-205F-4241-9824-435BF85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8D01-3B63-4294-8F94-F2F3675B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9484-6BA4-423A-AB4D-F98B51D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86B7-61B7-4A2E-B2E9-61C5515D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5948-D298-4C6C-AFA2-E8BBBE5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401-06F5-4B11-9268-E40DF62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9C80F-2767-4B04-91F7-5950A3C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A6F7-5002-4E17-888F-F71C232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8357-8F9D-46D3-A1E2-41A0665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FF53-C32E-4C2D-96A1-40E7220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CA49-3583-43B2-BA49-78C3B9C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49AF-BA68-48BD-A902-692FD31D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4DA5C-F832-48DE-A22D-BE9445FD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91F04-987F-4595-BE9A-E250C9B1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3D6F4-62EA-4DFB-B817-A99EFE76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BC4E-5923-4BB3-96CE-7EEDBBB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2048C-472F-4599-A781-D351F9B1C22D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ECA22-5DBE-42CD-BCB0-D165FCE2194C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5BAE5-7247-4D6D-B83D-37460D227D23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6462C-1CF8-49F7-AB79-0FF2FA92219F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1"/>
          <p:cNvSpPr/>
          <p:nvPr/>
        </p:nvSpPr>
        <p:spPr>
          <a:xfrm>
            <a:off x="0" y="10159920"/>
            <a:ext cx="19007280" cy="53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矩形 2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6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108B1-5BF8-44CC-8394-C1C4B3807A92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19D26-9536-4174-AD94-263C444BCBBB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10FEB-32EF-4F60-AC4A-BE93976B4247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26753-3E6A-4028-9E03-B54A015FA138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A273C-6559-48F8-B909-A58442087A0C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7A135-5C1F-4ED6-AE38-812B11AA8B3A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"/>
          <p:cNvSpPr/>
          <p:nvPr/>
        </p:nvSpPr>
        <p:spPr>
          <a:xfrm>
            <a:off x="0" y="10202760"/>
            <a:ext cx="1900728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042FD-5089-404A-A176-4343B58C52CF}" type="slidenum">
              <a: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00B84-A5BA-436E-ADE7-08583C112C82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69C5-28B0-44EF-8486-8116734FDE18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顺义区公路路网图"/>
          <p:cNvPicPr/>
          <p:nvPr/>
        </p:nvPicPr>
        <p:blipFill>
          <a:blip r:embed="rId1"/>
          <a:srcRect l="10189" t="0" r="10531" b="8798"/>
          <a:stretch/>
        </p:blipFill>
        <p:spPr>
          <a:xfrm>
            <a:off x="4695840" y="0"/>
            <a:ext cx="12241080" cy="9960120"/>
          </a:xfrm>
          <a:prstGeom prst="rect">
            <a:avLst/>
          </a:prstGeom>
          <a:ln w="0">
            <a:noFill/>
          </a:ln>
        </p:spPr>
      </p:pic>
      <p:sp>
        <p:nvSpPr>
          <p:cNvPr id="567" name="矩形 3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6"/>
          <p:cNvSpPr/>
          <p:nvPr/>
        </p:nvSpPr>
        <p:spPr>
          <a:xfrm>
            <a:off x="11957040" y="314964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5"/>
          <p:cNvSpPr/>
          <p:nvPr/>
        </p:nvSpPr>
        <p:spPr>
          <a:xfrm>
            <a:off x="11215800" y="27813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木林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22"/>
          <p:cNvSpPr/>
          <p:nvPr/>
        </p:nvSpPr>
        <p:spPr>
          <a:xfrm>
            <a:off x="822240" y="270000"/>
            <a:ext cx="89899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义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班位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3"/>
          <p:cNvSpPr/>
          <p:nvPr/>
        </p:nvSpPr>
        <p:spPr>
          <a:xfrm>
            <a:off x="12872880" y="564840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椭圆 14"/>
          <p:cNvSpPr/>
          <p:nvPr/>
        </p:nvSpPr>
        <p:spPr>
          <a:xfrm>
            <a:off x="9437760" y="806760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椭圆 16"/>
          <p:cNvSpPr/>
          <p:nvPr/>
        </p:nvSpPr>
        <p:spPr>
          <a:xfrm>
            <a:off x="10082160" y="638496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7176960" y="5808600"/>
            <a:ext cx="18432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9809280" y="6189840"/>
            <a:ext cx="18396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5"/>
          <p:cNvSpPr/>
          <p:nvPr/>
        </p:nvSpPr>
        <p:spPr>
          <a:xfrm>
            <a:off x="13057200" y="528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杨镇道班旧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椭圆 23"/>
          <p:cNvSpPr/>
          <p:nvPr/>
        </p:nvSpPr>
        <p:spPr>
          <a:xfrm>
            <a:off x="13755600" y="7377120"/>
            <a:ext cx="18432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5"/>
          <p:cNvSpPr/>
          <p:nvPr/>
        </p:nvSpPr>
        <p:spPr>
          <a:xfrm>
            <a:off x="13246200" y="702324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尹家府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椭圆 25"/>
          <p:cNvSpPr/>
          <p:nvPr/>
        </p:nvSpPr>
        <p:spPr>
          <a:xfrm>
            <a:off x="11123640" y="799452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5"/>
          <p:cNvSpPr/>
          <p:nvPr/>
        </p:nvSpPr>
        <p:spPr>
          <a:xfrm>
            <a:off x="10665000" y="76629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苏庄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5"/>
          <p:cNvSpPr/>
          <p:nvPr/>
        </p:nvSpPr>
        <p:spPr>
          <a:xfrm>
            <a:off x="8888400" y="777240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后桥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椭圆 28"/>
          <p:cNvSpPr/>
          <p:nvPr/>
        </p:nvSpPr>
        <p:spPr>
          <a:xfrm>
            <a:off x="10650600" y="616104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5"/>
          <p:cNvSpPr/>
          <p:nvPr/>
        </p:nvSpPr>
        <p:spPr>
          <a:xfrm>
            <a:off x="9999720" y="584028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河北村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椭圆 30"/>
          <p:cNvSpPr/>
          <p:nvPr/>
        </p:nvSpPr>
        <p:spPr>
          <a:xfrm>
            <a:off x="12347640" y="5721480"/>
            <a:ext cx="18396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5"/>
          <p:cNvSpPr/>
          <p:nvPr/>
        </p:nvSpPr>
        <p:spPr>
          <a:xfrm>
            <a:off x="11676240" y="592308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杨镇道班新址土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5"/>
          <p:cNvSpPr/>
          <p:nvPr/>
        </p:nvSpPr>
        <p:spPr>
          <a:xfrm>
            <a:off x="8798040" y="60310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俸伯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5"/>
          <p:cNvSpPr/>
          <p:nvPr/>
        </p:nvSpPr>
        <p:spPr>
          <a:xfrm>
            <a:off x="9753480" y="65372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前俸伯小修班土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6667560" y="546408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张喜庄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6:28:00Z</dcterms:created>
  <dc:creator>ysl</dc:creator>
  <dc:description/>
  <dc:language>en-US</dc:language>
  <cp:lastModifiedBy>rt rt</cp:lastModifiedBy>
  <cp:lastPrinted>2021-12-03T03:43:00Z</cp:lastPrinted>
  <dcterms:modified xsi:type="dcterms:W3CDTF">2024-08-19T06:22:32Z</dcterms:modified>
  <cp:revision>15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93</vt:lpwstr>
  </property>
</Properties>
</file>